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0B3-00D4-4967-AAC2-6B2C9104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C51-EE64-4203-80BA-46A46C64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C8A-493D-4F66-8968-5D75E14C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94D-8669-4225-B709-17B99F28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693-08D2-4C96-843F-16E1072D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3C6-E10A-4806-A8ED-6159CF7A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9DA-EBDC-4FA3-A7E1-19C6934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EAA-191D-4254-811F-D8209C63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E4B-1FC4-4C9D-A32D-95C8FB1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95E-2483-4EEC-A4C2-02ABAE5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E4F-E913-4C2F-92E2-222EBD6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6C8-522F-4507-8BF8-3DB00F17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5D87-09A2-4E18-8DA5-28506C86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 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an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8. ba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9. 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0. th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1. gr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s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6. think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7. br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038480" y="-360"/>
            <a:ext cx="51055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12. you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5. en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t</a:t>
            </a:r>
            <a:br>
              <a:rPr sz="4000"/>
            </a:b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ng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thankfu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drink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430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. squ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1. playground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2. wav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3. transferring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anth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. dumpl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. mo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. bend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9. handshak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0"/>
            <a:ext cx="4648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4. fung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. strong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0:54:43Z</dcterms:created>
  <dc:creator>Kathryn.Cobb</dc:creator>
  <dc:description/>
  <dc:language>en-US</dc:language>
  <cp:lastModifiedBy>Kathryn.Cobb</cp:lastModifiedBy>
  <dcterms:modified xsi:type="dcterms:W3CDTF">2008-01-30T12:00:05Z</dcterms:modified>
  <cp:revision>7</cp:revision>
  <dc:subject/>
  <dc:title>The Art Lesson Group A</dc:title>
</cp:coreProperties>
</file>